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0E9-14C5-4276-872B-2F64B0AD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39C-B006-4698-B9B0-DFF70E87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5D1E-6F6E-44A1-B163-116EFB4EF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212-F4E0-4E27-9F24-B54E708C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4E1-3436-484F-82D4-E6D49699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6612-6E49-477F-8A9F-3E134545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693E-7428-4D00-AB4B-3C27895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D7C9-A62C-487A-A94D-F953E07D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581D-8C18-4BA6-ADAF-DC8BBC90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D28F0-1D00-4753-986B-54BA134E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1BD1-62F8-43EA-97F2-BBC14A0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442-4916-4824-82D7-4201D1E1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BA6D-BC57-4709-9B88-92FB3214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C21B-282E-4C14-8B0D-4A49CC10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7EE3-9DF6-45E5-86C4-781C7953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C20E8-F31F-4AC2-891E-4004A8C1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DD17-4B2A-4162-BBDA-8906C9141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885B-DBF0-42F6-A0B5-986EC0E2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565D4-D606-4F6D-A894-A46F9442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3811-70A2-4974-A8BC-4960685C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DE42F-DAC3-4042-9114-EBE547FD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44A8-CF52-4CC0-BBF5-75AC65E4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DC3-F6E3-4941-867A-864423E7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8112-7454-4D68-8F2D-73DE823A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22BF-D431-4EE8-99BB-B566130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F9A9D-44CB-49D8-81B0-FAA9D7C5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064F5-1600-4DFC-BE69-EE3BC5E4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938F-DDD9-4DB6-BE1A-FB7FB74A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A7A34-C754-412E-AB4F-90F404AE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F9C2-537A-4846-B986-74AAC164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9DC1-3536-47B6-80C3-F5BF9396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918CE-FA13-45E7-9064-6F58D2CF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DE2CD-470D-45DD-B461-8D31924C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7FBD-C078-41BD-814D-8656AAC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645B-C438-4C22-B5B6-C034888F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1EB09-C8CD-4DB6-834C-EE1B5A78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7F7A-6D07-4475-9F45-1C05481C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239A7-E85F-4DF0-8C0C-B747E968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19EB-921D-4489-984D-1B82B46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EA8B-2881-41C5-AB0C-73738CCB1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1D9F7-6CC9-4E87-9054-C796AFE5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55F03-9FAF-46E1-8EE3-90FA8BDF4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D5C91-9961-4EEF-B379-EBF54EE5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E91D-1701-48BE-8008-18D1D99F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698-3B7A-45CB-B6C2-9045C1D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1B7D1-A2E6-4EAA-A3D8-C002D4AC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EF106-DFDD-4F55-8E09-D0BDAB4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7A9F-F6F9-426F-98AF-EED3E460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CE0B-092E-4BC3-B14F-1F7F8016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4C6D2-6F84-48FA-9913-62FFC2E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4D968-CFA2-4CAC-8C40-5A123979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20D3E-ACC4-4FD4-91FE-0129380B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B88EE-22B7-43BB-BB74-FBA0A92D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E4908-EE3B-492E-AD5B-C3F8B208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09B84-A86D-48CE-8AE2-FAB11134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3EB-7732-41A6-8869-40799357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5356C-17CC-4832-8E40-61726243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1072D-4EDE-4BE6-BBDE-84672F5B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F6E12-89D6-4D65-AC49-C831BAEF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85617-5418-4079-8D63-994AA610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10B47-5B96-4E77-8C3A-7AB9582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EFA3-EB6B-46DD-B7DB-2815D2DF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9AFD-BC95-498A-B32D-AB25ED52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61AB3-D996-4344-BA34-4106E741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33F26-B8E1-4E79-9CB1-E5456674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FB16A-ACA1-47F7-9E16-E14BF92F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6FB-92D3-4254-9CF7-D6B9BB9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5349A-2380-49D0-B42A-38EB2A98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B6902-2EF1-4718-ACB4-F4439242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1044E-FBD9-4AF9-8BE9-AB3D10CC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15FE-1D00-4E33-B6F6-B1041293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AA6BD-273A-4496-9798-DB773F43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809A8-1378-47F4-AAB5-A7FB8D0A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FB59-C00E-4A86-B477-DEEA2F0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A8EDB-1B84-42CD-BC1A-5A47CBD0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2A31-4FB8-46C9-80FF-CF4461E2A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E5665-AAEF-4D5F-8A5D-6D7EC462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817A-BD9F-4BCB-9FC6-C0071E4E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47AA-0BD2-4199-BB3F-F4AAEBBB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87070-DE1B-403C-91D7-37353DE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EED71-EE2A-4DF4-9BC6-BC186E1A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BFF58-2889-4D05-87DF-0F4AB284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86EF9-649D-4DF8-BC75-5B1A4F74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86F06-A441-4E84-9829-8E5D2D29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BD21D-85CA-44E1-A09F-0F253697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D9301-08D4-4763-B730-5DBF1D66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CF052-5112-48F6-AF12-62026E6C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2D750-D70A-42E8-8E17-FA809D82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A54-79A4-4027-8E17-79FE7D86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F12DD-4AFD-4EE9-88AA-75967208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5104B-BEDE-40EB-BDD3-7618D2B8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2D34E-69C0-40CA-85BC-EB28B04A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3C220-3EEF-4A1E-856C-EDADB2D3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68393-8717-4F3C-9456-0C4BF4C3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7D86-525C-4E78-9980-68E2C75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AFED8-C7FD-4811-AAF8-421EBBBB1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9BB0-4967-4CFD-93A5-6211188A0522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9535-F138-48C8-99A5-40AA2CF6109D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F65-4DEB-4B1D-A555-A53B0C859962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C294-4652-46C2-B847-984BC05C47E2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DA94-30D9-42B1-83E3-B7E43E9F77D3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5886-A780-4226-BBF9-1B511BC0DD9A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eeece1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2A76-A3EB-44A3-945E-9883C3FAF756}" type="slidenum">
              <a:rPr b="0" lang="ru-RU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onstantia"/>
              </a:rPr>
              <a:t>Click to edit the title text format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72880">
              <a:spcBef>
                <a:spcPts val="601"/>
              </a:spcBef>
              <a:buClr>
                <a:srgbClr val="c0504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096920" indent="-228600">
              <a:spcBef>
                <a:spcPts val="601"/>
              </a:spcBef>
              <a:buClr>
                <a:srgbClr val="a9454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371600" indent="-228600">
              <a:spcBef>
                <a:spcPts val="601"/>
              </a:spcBef>
              <a:buClr>
                <a:srgbClr val="c05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2B40-1BE9-4D25-AEF6-FF5F7351D611}" type="slidenum">
              <a:rPr b="0" lang="ru-RU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eacher-of-russia.r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f497d"/>
                </a:solidFill>
                <a:latin typeface="Constantia"/>
              </a:rPr>
              <a:t>Пахомова Елена Михайловна, заведующая кабинетом педагогического опыта АПК иППРО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428840" y="1857240"/>
            <a:ext cx="60721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Содержательный аспек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ущность предлагаемой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идея реализации проблем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актуальность и нау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пособность к методическому и научному обобщени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2. Деятельностный аспект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приемы мотивации участников мастер-класс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пособность к распространению педагогического опы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технологи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оптимальность используемых средств решения пробл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Constantia"/>
              </a:rPr>
              <a:t>Критерии и показатели оценивания мастер-класса</a:t>
            </a:r>
            <a:endParaRPr b="0" lang="en-US" sz="36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3. Личностные качест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пособность к импровиз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тепень воздействия на аудиторию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эрудиц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стиль общени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артистич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04a7b"/>
                </a:solidFill>
                <a:latin typeface="Constantia"/>
              </a:rPr>
              <a:t>- общая культур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1f497d"/>
                </a:solidFill>
                <a:latin typeface="Constantia"/>
              </a:rPr>
              <a:t>Полезные адреса </a:t>
            </a:r>
            <a:endParaRPr b="0" lang="en-US" sz="60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www.teacher-of-russia.ru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558ed5"/>
                </a:solidFill>
                <a:uFillTx/>
                <a:latin typeface="Constantia"/>
              </a:rPr>
              <a:t>http://apkpro.com/ikio/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Constantia"/>
              </a:rPr>
              <a:t>Мастер-класс: Что? Для чего? Как?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143000" y="1785960"/>
            <a:ext cx="6215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onstantia"/>
              </a:rPr>
              <a:t>Что такое мастер-класс?</a:t>
            </a:r>
            <a:endParaRPr b="0" lang="en-US" sz="48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(от англий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asterclas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master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лучший в какой-либо области +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class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onstantia"/>
              </a:rPr>
              <a:t>Идея мастер-класса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заимообуче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заимосовершенствовани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onstantia"/>
              </a:rPr>
              <a:t>Я знаю, как это делать. Я научу вас</a:t>
            </a: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gradFill rotWithShape="0">
            <a:gsLst>
              <a:gs pos="0">
                <a:srgbClr val="dcf0be"/>
              </a:gs>
              <a:gs pos="100000">
                <a:srgbClr val="dcf0be"/>
              </a:gs>
            </a:gsLst>
            <a:lin ang="900000"/>
          </a:gradFill>
          <a:ln w="9360">
            <a:solidFill>
              <a:srgbClr val="9bbb59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стер-класс — это двусторонний процесс: «преподаватель — слушатель»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астер: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казывает, включает в работу, просит повтор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лушатель-участник МК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 выполняет предложенное, повторяет, предлагает свой способ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onstantia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554120" y="1424160"/>
            <a:ext cx="603576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Constantia"/>
              </a:rPr>
              <a:t>Мастер-класс – это…</a:t>
            </a:r>
            <a:endParaRPr b="0" lang="en-US" sz="54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nstantia"/>
              </a:rPr>
              <a:t>Мастер-класс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 Придумайте проблему, вопрос, парадокс, вводящие в вашу тему занятия и представляющие интерес для «учащихся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f497d"/>
                </a:solidFill>
                <a:latin typeface="Constantia"/>
              </a:rPr>
              <a:t>Рекомендации по подготовке мастер-класса</a:t>
            </a:r>
            <a:endParaRPr b="0" lang="en-US" sz="2900" spc="-1" strike="noStrike">
              <a:solidFill>
                <a:srgbClr val="1f497d"/>
              </a:solidFill>
              <a:latin typeface="Constanti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. Включите фантазию, придумайте интересный замысел мастер-кла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. Составьте подробный план занят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8. Тщательно проверьте технику и работу микрофонов перед началом мастер-класс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9. Расставьте стулья, столы и доску так, как вам нужн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0. Когда все готово — дайте команду организаторам, что можно начинат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2:35:30Z</dcterms:created>
  <dc:creator>Пахомова</dc:creator>
  <dc:description/>
  <dc:language>en-US</dc:language>
  <cp:lastModifiedBy>Пахомова</cp:lastModifiedBy>
  <dcterms:modified xsi:type="dcterms:W3CDTF">2011-02-13T07:46:47Z</dcterms:modified>
  <cp:revision>8</cp:revision>
  <dc:subject/>
  <dc:title>Слайд 1</dc:title>
</cp:coreProperties>
</file>